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2E1-2A58-4423-8139-4C8FA8A7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950-DBD0-494D-A7C9-AB3F504A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20F-8923-4303-8D5A-FE055378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6B5-08AB-472C-BE69-865D2683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E2A-6FEB-4C11-BFA5-6BFBA8E7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7C0-B443-4610-A0EB-575B6060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F3E-CAB9-419F-AA5F-C4BE3BD6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F66-2E1D-4228-ADA7-ADE5D0E5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7AF-7AF6-4E65-86B7-754E85B5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EAD-889A-48E5-80BF-C7308B6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DD0-76E0-4C42-8DC7-3B930480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071-D860-4E71-BC79-DC9254A7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96DA-B7F3-49A6-912A-6A463ABBF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929960"/>
            <a:ext cx="84488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a9121"/>
                </a:solidFill>
                <a:uFillTx/>
                <a:latin typeface="Trebuchet MS"/>
              </a:rPr>
              <a:t>Cooperative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1280" y="2666520"/>
            <a:ext cx="92012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c113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130"/>
                </a:solidFill>
                <a:latin typeface="Trebuchet MS"/>
              </a:rPr>
              <a:t>Student interaction enhances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c113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130"/>
                </a:solidFill>
                <a:latin typeface="Trebuchet MS"/>
              </a:rPr>
              <a:t>Jigsaws encourge students to become "experts" of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c113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130"/>
                </a:solidFill>
                <a:latin typeface="Trebuchet MS"/>
              </a:rPr>
              <a:t>Participation and practice enhances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c113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130"/>
                </a:solidFill>
                <a:latin typeface="Trebuchet MS"/>
              </a:rPr>
              <a:t>Changes classroom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400" y="509760"/>
            <a:ext cx="1835280" cy="1285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918040" y="91440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cc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68686"/>
                  </a:outerShdw>
                </a:effectLst>
                <a:latin typeface="Alor"/>
              </a:rPr>
              <a:t>Jigsaw</a:t>
            </a:r>
            <a:endParaRPr b="0" lang="en-US" sz="2400" spc="1" strike="noStrike">
              <a:ln w="28440">
                <a:solidFill>
                  <a:srgbClr val="00cc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68686"/>
                </a:outerShdw>
              </a:effectLst>
              <a:latin typeface="Alor"/>
              <a:ea typeface="Al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orkstation</cp:lastModifiedBy>
  <dcterms:modified xsi:type="dcterms:W3CDTF">2010-08-03T14:53:49Z</dcterms:modified>
  <cp:revision>3</cp:revision>
  <dc:subject/>
  <dc:title>PowerPoint Presentation</dc:title>
</cp:coreProperties>
</file>